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B1DF-8905-49A5-AC4C-75BDCF600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DAB9-61A9-4644-9B8A-EEAF32F9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3F5B-2FE4-489A-88FE-03FFA5C9D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D64D-4EAD-4712-8510-DC1EEB75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A5F0-E269-4D1C-97B5-5FB0171E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894D-123E-4E2C-90B2-E937BC11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1D1F-2B84-4E4C-B1AA-FE0CFDA3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872C-57E9-483F-BA75-6DE58107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7A2A-AE27-4345-A95D-6EA0E5E4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F311-5883-4425-919E-A2BFD380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1AB7-EA61-42B5-A548-F27F6AB4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79D7-5F48-4EA9-A130-4B656077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E1D0-3BDB-4759-9D42-C3C15B2F41B4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600" spc="-1" strike="noStrike">
                <a:solidFill>
                  <a:srgbClr val="ffffff"/>
                </a:solidFill>
                <a:latin typeface="Arial"/>
              </a:rPr>
              <a:t>Crop Circl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issbury Rings, England, 1995"/>
          <p:cNvPicPr/>
          <p:nvPr/>
        </p:nvPicPr>
        <p:blipFill>
          <a:blip r:embed="rId1"/>
          <a:stretch/>
        </p:blipFill>
        <p:spPr>
          <a:xfrm>
            <a:off x="250920" y="133200"/>
            <a:ext cx="8713800" cy="6537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Galaxy Formation, New Alresford, England, 1995"/>
          <p:cNvPicPr/>
          <p:nvPr/>
        </p:nvPicPr>
        <p:blipFill>
          <a:blip r:embed="rId1"/>
          <a:stretch/>
        </p:blipFill>
        <p:spPr>
          <a:xfrm>
            <a:off x="395280" y="458640"/>
            <a:ext cx="8137440" cy="6102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Sisters of the Pleiades, Froxfield, England, 1994"/>
          <p:cNvPicPr/>
          <p:nvPr/>
        </p:nvPicPr>
        <p:blipFill>
          <a:blip r:embed="rId1"/>
          <a:stretch/>
        </p:blipFill>
        <p:spPr>
          <a:xfrm>
            <a:off x="250920" y="133200"/>
            <a:ext cx="8713800" cy="6537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Liddington Castle, near Swindon, England, 1997"/>
          <p:cNvPicPr/>
          <p:nvPr/>
        </p:nvPicPr>
        <p:blipFill>
          <a:blip r:embed="rId1"/>
          <a:stretch/>
        </p:blipFill>
        <p:spPr>
          <a:xfrm>
            <a:off x="250920" y="133200"/>
            <a:ext cx="8713800" cy="6537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Spinning Star, Wiltshire, England"/>
          <p:cNvPicPr/>
          <p:nvPr/>
        </p:nvPicPr>
        <p:blipFill>
          <a:blip r:embed="rId1"/>
          <a:stretch/>
        </p:blipFill>
        <p:spPr>
          <a:xfrm>
            <a:off x="250920" y="189000"/>
            <a:ext cx="8640720" cy="6481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The Crescent Star, Silbury Hill, England, 1999"/>
          <p:cNvPicPr/>
          <p:nvPr/>
        </p:nvPicPr>
        <p:blipFill>
          <a:blip r:embed="rId1"/>
          <a:stretch/>
        </p:blipFill>
        <p:spPr>
          <a:xfrm>
            <a:off x="250920" y="187200"/>
            <a:ext cx="8642160" cy="6483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Winterbourne Stoke, England, 1995"/>
          <p:cNvPicPr/>
          <p:nvPr/>
        </p:nvPicPr>
        <p:blipFill>
          <a:blip r:embed="rId1"/>
          <a:stretch/>
        </p:blipFill>
        <p:spPr>
          <a:xfrm>
            <a:off x="250920" y="133200"/>
            <a:ext cx="8713800" cy="6537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Seventeen Moons, Wiltshire, England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Koch Snowflake, Silbury Hill, England, 1997"/>
          <p:cNvPicPr/>
          <p:nvPr/>
        </p:nvPicPr>
        <p:blipFill>
          <a:blip r:embed="rId1"/>
          <a:stretch/>
        </p:blipFill>
        <p:spPr>
          <a:xfrm>
            <a:off x="250920" y="133200"/>
            <a:ext cx="8713800" cy="6537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rescent Moons, Wiltshire, England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23:46:05Z</dcterms:created>
  <dc:creator>DE&amp;T User</dc:creator>
  <dc:description/>
  <dc:language>en-US</dc:language>
  <cp:lastModifiedBy>Image</cp:lastModifiedBy>
  <dcterms:modified xsi:type="dcterms:W3CDTF">2011-11-02T05:47:51Z</dcterms:modified>
  <cp:revision>2</cp:revision>
  <dc:subject/>
  <dc:title>Slide 1</dc:title>
</cp:coreProperties>
</file>